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1E0-2928-4237-97FE-CE9184DC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118-ABFC-47D5-B9F9-824737B0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123-4624-463D-8309-191F9606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49B3-7268-4D89-8BE7-7D09B2C7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9E62-1447-42AC-B0C5-6E78247D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0DFD-8871-40A9-9702-6A90C737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2E97-C19C-4B11-B9F9-84105C81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0C07-2A16-4FCB-B07D-CDCB1D8F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C6D0-AB1F-4049-9A26-3CB6E43E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B529-65ED-403B-A2B4-B6E244EE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7CE4-55C6-48E1-AF41-65810520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503-C63C-4E96-A29A-F71FBA80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A74C-A712-4DC4-A0C2-33A50AEE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DCCB-9EC5-4103-8931-F19430B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E947-9DFE-4B76-9C16-015CFDD6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6CB8-303D-4402-9FFA-A58927FE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DC15-001D-49CE-BE20-A2C42572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E1B-7546-4A99-A3D3-DF8D59CE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39D4-D05E-416F-BFED-32F1C0B4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6E9-CDAD-4A0C-BCD9-A4424274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5BD-3D9A-4432-A2F0-9BA5B77E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318-28E3-4C34-BF02-DEB7951C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1B6-BFDF-463A-BA2B-74911790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A81-DFAC-48EA-BAF8-94A81A99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A429-A4F3-4A07-A3E5-EFC58E8E6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9B37-692A-466E-86DF-33AE216E5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The Internet and Multimedia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2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How the Internet Developed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39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Internet developed from a research project started by the U.S. Defense Department in 1958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ree inventions that spread the use of the Internet were: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ersonal computer (early 1980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orld Wide Web (198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rowser (199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onnecting to the Interne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 order to connect to the Internet you must hav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de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your computer to send and receive signals though telephone 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ernet service provider (ISP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for all home conn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wser softwar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ht need plug-in programs to retrieve some types of media applicatio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Navigating the Web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 order to work with multimedia on the Internet, you must understand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rowser screen and its standard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L addresses and the information they cont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0" t="0" r="0" b="33964"/>
          <a:stretch/>
        </p:blipFill>
        <p:spPr>
          <a:xfrm>
            <a:off x="2666880" y="2438280"/>
            <a:ext cx="5181840" cy="3641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Standard Browser Elemen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828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18288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vigation butt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1828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u 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1828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address or UR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6019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deb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60199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display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6019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2133720"/>
            <a:ext cx="1066680" cy="838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133720"/>
            <a:ext cx="7596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21337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324120" y="2133720"/>
            <a:ext cx="76212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95120" y="5334120"/>
            <a:ext cx="228600" cy="761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952880" y="4800600"/>
            <a:ext cx="0" cy="1295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257800" y="5638680"/>
            <a:ext cx="175248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010280" y="4419720"/>
            <a:ext cx="76320" cy="1676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URL Elemen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2590920"/>
          <a:ext cx="8153280" cy="248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590920"/>
                    <a:ext cx="8153280" cy="24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Searching the Web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Use search engines to find the right Web page: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search queries that include keywor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Boolean search strategies to narrow your sear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right search engine to conduct faster, more efficient search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724280" y="205740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ommunicating on the Interne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ere are several ways to communicate on the Internet: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to a specific e-mail address. Can have attach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transfer protocol (FTP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ten used to transfer large files from one computer to anoth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t room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Virtual” rooms where you can exchange typed messages with others who are in the roo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t messag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communicate in real time with one pers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2:36:40Z</dcterms:created>
  <dc:creator>LJ</dc:creator>
  <dc:description/>
  <dc:language>en-US</dc:language>
  <cp:lastModifiedBy>GLENCOE</cp:lastModifiedBy>
  <dcterms:modified xsi:type="dcterms:W3CDTF">2003-01-04T00:09:40Z</dcterms:modified>
  <cp:revision>23</cp:revision>
  <dc:subject/>
  <dc:title>Chapter 2 The Internet and Multimedia</dc:title>
</cp:coreProperties>
</file>